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8C9-C1A2-4CFF-8921-A8B3C49B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E78-0D54-42E0-AAD0-12FB8C1C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4C93-A03A-42D1-BF11-49CDBDF3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F3D-B6DE-4C4E-A96B-7F1E0202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23D-3FA6-47EC-B4C3-6F0B0D14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A1C-D2E1-47C8-B498-8638D7E6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AE5-6C10-4664-B369-87D314D0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238-0D79-47E2-B688-5B19F9B8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5EE-6A37-4FF0-A22A-7B3717D4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89B-DA71-46C0-8E41-92F0C67A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AE2-B912-44A2-A915-91E8CD84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977-83E5-47DA-9FE6-692F56DB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8FD5-5229-4BFB-A4BD-12840BC6A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slide" Target="slide23.xml"/><Relationship Id="rId17" Type="http://schemas.openxmlformats.org/officeDocument/2006/relationships/slide" Target="slide23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1.xml"/><Relationship Id="rId24" Type="http://schemas.openxmlformats.org/officeDocument/2006/relationships/slide" Target="slide11.xml"/><Relationship Id="rId25" Type="http://schemas.openxmlformats.org/officeDocument/2006/relationships/slide" Target="slide21.xml"/><Relationship Id="rId26" Type="http://schemas.openxmlformats.org/officeDocument/2006/relationships/slide" Target="slide21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27.xml"/><Relationship Id="rId30" Type="http://schemas.openxmlformats.org/officeDocument/2006/relationships/slide" Target="slide27.xml"/><Relationship Id="rId31" Type="http://schemas.openxmlformats.org/officeDocument/2006/relationships/slide" Target="slide31.xml"/><Relationship Id="rId32" Type="http://schemas.openxmlformats.org/officeDocument/2006/relationships/slide" Target="slide31.xml"/><Relationship Id="rId33" Type="http://schemas.openxmlformats.org/officeDocument/2006/relationships/slide" Target="slide33.xml"/><Relationship Id="rId34" Type="http://schemas.openxmlformats.org/officeDocument/2006/relationships/slide" Target="slide33.xml"/><Relationship Id="rId35" Type="http://schemas.openxmlformats.org/officeDocument/2006/relationships/slide" Target="slide29.xml"/><Relationship Id="rId36" Type="http://schemas.openxmlformats.org/officeDocument/2006/relationships/slide" Target="slide29.xml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7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7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8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8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9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8" action="ppaction://hlinksldjump"/>
          </p:cNvPr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9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0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0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hank you for playing Jeopardy.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mail Mrs. Row with any questions or comments!</a:t>
            </a:r>
            <a:br>
              <a:rPr sz="36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Check with your teacher firs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Alma Row</cp:lastModifiedBy>
  <dcterms:modified xsi:type="dcterms:W3CDTF">2004-09-25T16:49:07Z</dcterms:modified>
  <cp:revision>15</cp:revision>
  <dc:subject/>
  <dc:title>PowerPoint Presentation</dc:title>
</cp:coreProperties>
</file>